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2CA-88C2-45BF-A7C0-176CE0AB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A59-ED0A-4D05-AF55-E94F51C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601-664C-4825-A6B9-BBAC8585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C54-D0B2-410A-AB09-01CAC889C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05DF-23B7-4B77-9695-B74BF096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AB2-E901-499B-B35F-581605E7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33C-DA9D-436F-98CC-356B8D16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D80-8D67-44C1-AF1B-37D1725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5B2D-5F20-4AA8-B8BC-5D853257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B63-7E80-4939-A279-C0E81E59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6E6-C2FA-41D5-98B3-AB64EDA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A3D-08C0-47A2-9984-D8476753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C953-3F51-4CCE-A903-0D5062EEB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2736720" cy="3200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-76320"/>
            <a:ext cx="655344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Lektion 5</a:t>
            </a:r>
            <a:r>
              <a:rPr b="1" lang="en-US" sz="2400" spc="-1" strike="noStrike">
                <a:solidFill>
                  <a:srgbClr val="cc3399"/>
                </a:solidFill>
                <a:latin typeface="Bauhaus 93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Bauhaus 9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ok in the textbook on this same page and put an “x” next to the correct answers.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2. Introduce each of the children.  Follow the ex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3. Use the words from the word bank to decide how to answer each qu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4. To whom are these letters addressed?  Write your answers in your notebook.  Use the example sentences below as your gu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5. What prefix or suffix is missing from each of these words?  You dec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6. Calculate each of these math equations and fill in the chart. Ü7a.  Match the picture and work.  What is the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7. How old is each person?  Write the answers in your notebook in sentence form.  See the example about Frau Link at the end of the exerci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048120"/>
            <a:ext cx="906768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8. What questions did the child ask?  Look at the answers on the right given by the man to decide.  Write the dialogue between these two in your noteboo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9. From where do each of these children come?    Write a complete senten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0. Who are these characters?  Which of the two activities are they doing?  Which one are they not doing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1. Who are the people in each of these pictures?  Write down whom each picture shows and also who is not shown.  Follow the examp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2a. Which question word do you need?  Choo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3b.  ABC – Re-read the questions you just created above in 12a and now write down the answers.  Check in your textbook for the information about these characte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Ü14. Match the pictures with the correct lett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1: Select the words from the word bank above that fit in each of these categ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2: Which words belong together?  Match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ercise W3: Which verbs from the word bank above fit in each of these catego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8:27:52Z</dcterms:created>
  <dc:creator>udsd</dc:creator>
  <dc:description/>
  <dc:language>en-US</dc:language>
  <cp:lastModifiedBy>udsd</cp:lastModifiedBy>
  <dcterms:modified xsi:type="dcterms:W3CDTF">2010-05-07T17:05:16Z</dcterms:modified>
  <cp:revision>4</cp:revision>
  <dc:subject/>
  <dc:title>Slide 1</dc:title>
</cp:coreProperties>
</file>